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7DE-EF24-457F-A7CB-07905BFE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BAA-EFAC-4C76-B24A-8719F4E1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7E6-69BC-420D-9FA9-4197A1DA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5DD-ADE5-47A7-80D5-FB4661C5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E0A-1D7F-40F6-A8AD-6D8259DA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71AB-B229-4F7C-912A-C36F06B5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87C-E7C0-4C17-9F63-1A74A506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6E25-E15F-4438-A143-D2FCB69F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34D9-A780-4981-A492-4312D470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A2E5-8A82-4FF5-BE48-D30CAE2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A7A1-B660-4F19-8C30-D1F43C79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E26-6C4B-4BF2-80EB-96E9DF83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C15A-6207-4466-BAF7-029A148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53FD-5EFD-4C7C-9E0F-49D094C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CCA3-0F14-452C-B839-47CE7254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5381-31F3-4DB0-B997-CB5794A7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A27A-1BF9-4C22-AAE5-13B09ABD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931-79AB-454D-92AD-3CCF2E03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8BA-8685-4AD6-A650-3DC54B78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B73-C133-4F31-ACD4-38EBADCF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E10-6F5F-4F4A-B3D6-008E43FA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BFB-F82A-43D9-837F-5B70A56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A61-DC53-4371-8375-A03E2F80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462-F7A0-4022-BE3E-8D7A98C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3F3E-45DE-4CEC-8729-1EDF66A98B77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A7A4-E6AD-4982-861C-17D4AD40B0E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.  A researcher published this survey result:  “74% of people would be willing to spend 10% more for energy from a non-polluting source”.  The survey question was announced on a national radio show and 1200 listeners responded by calling in.  What is wrong with this surve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3123720"/>
            <a:ext cx="769320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vey is not random therefore has serious potential for a bias result to be pro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 T.V. show’s executives commissioned a study to gauge the impact of the show’s ratings on the sales of its advertisers. Is this an experiment or observational stud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al stud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people were not asked to alter their regular behavior in any way in order to particip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A doctor performs several diagnostic tests to determine the reason for a patient’s illness.  Is this an experiment or observational stud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be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patient has to participate not just be obser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Researchers collect data by interviewing survivors of the holocaust.  Is this cross-sectional, retrospective, or prospectiv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y are collecting data about the p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. An officer gathers data about a wreck on 167 this morning in order to issue citations at the scene. Is this cross-sectional, retrospective, or prospective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 sec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 data is being collected at the time of the acciden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 tax auditor selects every 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come tax return that is received the inspect for errors.  Is this a random, systematic, stratified, convenience or cluster samp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he has a system of collecting the data that he is foll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. A pollster uses a computer to generate 500 random numbers, then calls the people associated with each number. Is this a random, systematic, stratified, convenience or cluster samp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random s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43840" y="844200"/>
            <a:ext cx="7760520" cy="113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. The government is interested in the sports participated in by high schools across the country.  They have each state conduct a survey of their residents and send the results back to Washington.  Would they need to use a random, systematic, stratified, convenience or cluster samp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3657240"/>
            <a:ext cx="7693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ould us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 s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 population is very large and cluster samples are cost and time efficient  to g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43840" y="844200"/>
            <a:ext cx="7760520" cy="113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.To avoid working late, a quality control analyst simply inspects the first 100 items produced in a day. Is this a random, systematic, stratified, convenience or cluster samp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3276360"/>
            <a:ext cx="76932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ience s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 worker chooses a sample that is easy for him to coll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.  If three of the classes in a frequency table are 2-15, 16-29 and 30-43, what is the width of each clas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dth of each cl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1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40080"/>
                <a:gridCol w="1538280"/>
                <a:gridCol w="15382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.  If 80.0-110.9 and 111.0-141.9 are two classes of a frequency distribution, find the class boundaries for a class of 80.0-100.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undaries would be 79.95 and 110.9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. There are 100 pieces of data collected and arranged in a frequency distribution.  In the class of 200-300 there was a frequency of 25.  What would be the relative frequency of that clas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3200040"/>
            <a:ext cx="7693200" cy="28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ative frequency would be 25% or 25/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05840" y="929880"/>
            <a:ext cx="7741080" cy="126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. Suppose a data set has 60 pieces of data with 100 and 20 being your max and min values.  If you wanted 8 classes, and 20 to be the lower boundary of your first class, how big should you make your class width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377028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ass width should be 11 so that you are sure to include 100 in the last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29200" y="2819520"/>
          <a:ext cx="1828800" cy="36576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-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-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-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-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-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A sample of 500 employees of a company is selected and the average height is found to be 5ft 9in.  Is this figure a statistic or a paramete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t is representative of the s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The amount of milk produced by a cow in a given day would be considered discrete or continuous dat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is conside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amount of milk, depending upon when measured, could be a non-countable nu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Shirt sized of small, medium and large would be considered nominal, ordinal, interval or ratio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zes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we can put them in a ranked order but can’t find a numerical difference between 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Heights of the basketball team would be nominal, ordinal, interval, or ratio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s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re is a natural zero (no height at all), the numbers can be put in order from least to greatest, and the differences between the numbers mean some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The counties of Arkansas would be nominal, ordinal interval or ratio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unties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re is no way to rank the counties or find a difference between tw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Jan randomly asks 50 employees of Sure Tan about their favorite tanning lotion.  Identify the sample, population, and if the sample would be representative of the popul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is the 50 employ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lled,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all the employees of Sure 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sam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ly to be represen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it is a good size sample and was collected random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 Give an alternative conclusion to the following situation:  A study shows that adults who work at their desk all day weigh more than those who do not.  Conclusion: Desk jobs cause people to gain weigh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 sit at a desk all day are less active than those who do not, therefore their lack of exercise may cause them to gain weight, not the job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AllenH</cp:lastModifiedBy>
  <dcterms:modified xsi:type="dcterms:W3CDTF">2011-01-27T14:53:23Z</dcterms:modified>
  <cp:revision>8</cp:revision>
  <dc:subject/>
  <dc:title>Twenty Questions </dc:title>
</cp:coreProperties>
</file>